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691813" cy="7559675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E7C6-3DDC-4306-AD37-6AA411F703FF}" type="datetime3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851040" y="729720"/>
            <a:ext cx="5155920" cy="36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-360" y="923436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446E-423B-4E19-9B7D-1846B523B9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6BBCCFF-23E3-427D-B3B9-81DB5442B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28640"/>
            <a:ext cx="515628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677D812-EE33-4E42-A283-DDCF527A33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DCB963A-CB30-4B8A-A449-F5DD5F1D16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73A344F-42EF-4B39-8D7C-B3CE87588B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6FEFEA1-A2AC-4BB9-BD64-ECE68577FE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e l'en-tête 3"/>
          <p:cNvSpPr/>
          <p:nvPr/>
        </p:nvSpPr>
        <p:spPr>
          <a:xfrm>
            <a:off x="0" y="0"/>
            <a:ext cx="2973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Espace réservé de la date 4"/>
          <p:cNvSpPr/>
          <p:nvPr/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FA7B145-AB2E-4AC5-BACF-E676C2707D6D}" type="datetime3">
              <a:rPr b="0" lang="en-GB" sz="12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Espace réservé du numéro de diapositive 5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6D86A5-A662-40C1-9C7D-89BB7116B3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1362B51-32DC-411C-A5CF-35576344FC4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44401A-B197-49C2-B566-FC9EE2F5B2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38632E-82EE-4B39-B78A-767FE11B11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9980B2A-A993-4A5E-B977-6436DF07F4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1A2-3386-40E6-82FA-0BAD2AC2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AE90-845C-4D21-90B8-74CA33F4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D415-C32D-42C9-AD78-D4D536CE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CD5B-A149-4B9C-97CE-A008A1F1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137-24FA-40F8-A34E-DAE05B95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BD64-6AD7-4E50-BC6F-566EEB83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BAD-AAB2-4B9B-BF9D-AF521ED4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383-9DF5-4C30-B78F-CF5A965B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FF5-F011-446D-89A0-F991BC96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B40-6E13-4310-AF34-945511DD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034-1FA0-4116-8D54-CA49C258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758D-3679-47C7-9962-E309758E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1440" y="6632640"/>
            <a:ext cx="10693440" cy="9288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20840" y="7054920"/>
            <a:ext cx="4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5D5293A-A3CD-4B3C-A66F-24A6BFDDA682}" type="slidenum">
              <a:rPr b="1" lang="en-US" sz="17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GB" sz="24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7" descr="WHO-EN-white-H"/>
          <p:cNvPicPr/>
          <p:nvPr/>
        </p:nvPicPr>
        <p:blipFill>
          <a:blip r:embed="rId2"/>
          <a:stretch/>
        </p:blipFill>
        <p:spPr>
          <a:xfrm>
            <a:off x="7521480" y="6659640"/>
            <a:ext cx="25812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 rot="5400000">
            <a:off x="10372680" y="7257960"/>
            <a:ext cx="247680" cy="123840"/>
          </a:xfrm>
          <a:prstGeom prst="rect">
            <a:avLst/>
          </a:prstGeom>
          <a:solidFill>
            <a:srgbClr val="e2c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1440" y="6537240"/>
            <a:ext cx="10692000" cy="10242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268280" y="7066080"/>
            <a:ext cx="3135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1" lang="en-GB" sz="1600" spc="-1" strike="noStrike">
                <a:solidFill>
                  <a:srgbClr val="96ccee"/>
                </a:solidFill>
                <a:latin typeface="Arial Narrow"/>
              </a:rPr>
              <a:t>Regional Office for Africa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492120" y="7032600"/>
            <a:ext cx="48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fld id="{4C7610EC-42CA-4081-A35A-FD32D381B1E2}" type="slidenum">
              <a:rPr b="1" lang="en-US" sz="19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9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7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Picture 19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6946920" y="6605640"/>
            <a:ext cx="32958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"/>
          <p:cNvSpPr/>
          <p:nvPr/>
        </p:nvSpPr>
        <p:spPr>
          <a:xfrm>
            <a:off x="0" y="0"/>
            <a:ext cx="10693440" cy="756144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Picture 16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714240" y="525600"/>
            <a:ext cx="4799160" cy="1390680"/>
          </a:xfrm>
          <a:prstGeom prst="rect">
            <a:avLst/>
          </a:prstGeom>
          <a:ln w="0">
            <a:noFill/>
          </a:ln>
        </p:spPr>
      </p:pic>
      <p:sp>
        <p:nvSpPr>
          <p:cNvPr id="124" name="Line 17"/>
          <p:cNvSpPr/>
          <p:nvPr/>
        </p:nvSpPr>
        <p:spPr>
          <a:xfrm>
            <a:off x="0" y="2940120"/>
            <a:ext cx="106934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557360" y="2112840"/>
            <a:ext cx="0" cy="544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F60A-4467-425E-838F-4C6A99F12D8C}" type="slidenum"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5120" y="2414520"/>
            <a:ext cx="9088200" cy="3510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alogue national sur le Financement de la Santé  pour la Couverture Sanitaire Universelle au Togo : Lomé, 09 Février 2017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br>
              <a:rPr sz="1800"/>
            </a:br>
            <a:r>
              <a:rPr b="1" lang="en-US" sz="4100" spc="-1" strike="noStrike">
                <a:solidFill>
                  <a:srgbClr val="fbebaf"/>
                </a:solidFill>
                <a:latin typeface="Arial"/>
              </a:rPr>
              <a:t>COUVERTURE SANITAIRE UNIVERSELLE</a:t>
            </a:r>
            <a:br>
              <a:rPr sz="2300"/>
            </a:br>
            <a:r>
              <a:rPr b="1" i="1" lang="en-US" sz="14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400" spc="-1" strike="noStrike">
              <a:solidFill>
                <a:srgbClr val="447d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-Défis et Opportunit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464840"/>
            <a:ext cx="1026000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0000cc"/>
                </a:solidFill>
                <a:latin typeface="Arial Narrow"/>
              </a:rPr>
              <a:t>Opportunités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ynamique mondiale en faveur de la promotion de la CSU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artenariat international pour le développement de la CSU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de croissante de la population pour l’accès aux services de santé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VI. Messages clés (1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3760" y="1481040"/>
            <a:ext cx="10175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7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ngagement national au plus haut niveau et des acteur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tratégie nationale de financement de la santé et le renforcement de l’offre de soins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 financement de la santé par les financements domestiques reste capital  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érennisation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onne voie pour améliorer la performance des systèmes de santé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ocessus continu dans le temps 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Messages cl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3760" y="1480680"/>
            <a:ext cx="10175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Tous les pays, à toutes les étapes de leur développement, peuvent prendre des mesures immédiates pour progresser plus rapidement vers la couverture universelle et pour maintenir leur objectif (RSM 2010)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i="1" lang="fr-FR" sz="2800" spc="-1" strike="noStrike">
                <a:solidFill>
                  <a:srgbClr val="ff0000"/>
                </a:solidFill>
                <a:latin typeface="Arial Narrow"/>
              </a:rPr>
              <a:t>Se battre pour la couverture universelle est un objectif admirable et réalisable dans tous les pays du monde </a:t>
            </a:r>
            <a:r>
              <a:rPr b="1" i="1" lang="fr-FR" sz="2800" spc="-1" strike="noStrike">
                <a:solidFill>
                  <a:srgbClr val="000066"/>
                </a:solidFill>
                <a:latin typeface="Arial Narrow"/>
              </a:rPr>
              <a:t>»</a:t>
            </a:r>
            <a:r>
              <a:rPr b="0" i="1" lang="fr-FR" sz="2800" spc="-1" strike="noStrike">
                <a:solidFill>
                  <a:srgbClr val="000066"/>
                </a:solidFill>
                <a:latin typeface="Arial Narrow"/>
              </a:rPr>
              <a:t> Dr Margaret Chan, DG OM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2041560" y="1101600"/>
            <a:ext cx="6518160" cy="14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GB" sz="6600" spc="-1" strike="noStrike">
                <a:solidFill>
                  <a:srgbClr val="003399"/>
                </a:solidFill>
                <a:latin typeface="Calibri"/>
              </a:rPr>
              <a:t>Merci</a:t>
            </a:r>
            <a:endParaRPr b="1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809720" y="2112840"/>
            <a:ext cx="698040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10693440" cy="110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800" spc="-1" strike="noStrike">
                <a:solidFill>
                  <a:srgbClr val="1c78b0"/>
                </a:solidFill>
                <a:latin typeface="Arial"/>
              </a:rPr>
              <a:t>Plan de présentation </a:t>
            </a:r>
            <a:endParaRPr b="1" lang="en-US" sz="48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ntexte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nition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Situation de la mise en œuvre de la CSU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Facteurs clés de succè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s et opportunit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Messages cl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I.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Contexte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1800" y="1341360"/>
            <a:ext cx="1018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Fortes inégalités, barrières à l’accès aux services de santé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Faible performance des systèmes de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riorité moindre accordée à la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auvreté des populations et autres exclusions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Santé</a:t>
            </a:r>
            <a:r>
              <a:rPr b="1" lang="fr-FR" sz="26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droit fondamental de tout être humain (Art 25.1 DDH), condition pour le développement économique et social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Volonté politique traduite par divers engagements des Etats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2"/>
          <p:cNvSpPr/>
          <p:nvPr/>
        </p:nvSpPr>
        <p:spPr>
          <a:xfrm>
            <a:off x="276120" y="4851360"/>
            <a:ext cx="10106280" cy="1411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693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fr-FR" sz="3800" spc="-1" strike="noStrike">
                <a:solidFill>
                  <a:srgbClr val="7030a0"/>
                </a:solidFill>
                <a:latin typeface="Arial"/>
              </a:rPr>
              <a:t>II. </a:t>
            </a:r>
            <a:r>
              <a:rPr b="1" lang="fr-FR" sz="4400" spc="-1" strike="noStrike">
                <a:solidFill>
                  <a:srgbClr val="1c78b0"/>
                </a:solidFill>
                <a:latin typeface="Arial"/>
              </a:rPr>
              <a:t>Définition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563560"/>
            <a:ext cx="10693440" cy="24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163600" y="2571840"/>
            <a:ext cx="6266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2778d9"/>
                </a:solidFill>
                <a:latin typeface="Arial"/>
              </a:rPr>
              <a:t>Couverture sanitaire universelle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493560" y="4991040"/>
            <a:ext cx="410688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isponibilité effective en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services de santé de qualité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5829480" y="4991040"/>
            <a:ext cx="438120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Protection contre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es risques financier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5297400" y="3957480"/>
            <a:ext cx="0" cy="665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214800" y="4448160"/>
            <a:ext cx="45576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Utilisation effective des services de santé</a:t>
            </a: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963880" y="3559320"/>
            <a:ext cx="4559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Protection sociale en santé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 flipV="1">
            <a:off x="5270400" y="2992320"/>
            <a:ext cx="14400" cy="609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601640" y="1349280"/>
            <a:ext cx="7366320" cy="568440"/>
          </a:xfrm>
          <a:prstGeom prst="rect">
            <a:avLst/>
          </a:prstGeom>
          <a:solidFill>
            <a:srgbClr val="fae8de"/>
          </a:solidFill>
          <a:ln w="57240">
            <a:solidFill>
              <a:srgbClr val="277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ff0000"/>
                </a:solidFill>
                <a:latin typeface="Arial"/>
              </a:rPr>
              <a:t>Etat de Santé de la population amélioré</a:t>
            </a:r>
            <a:r>
              <a:rPr b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 flipV="1">
            <a:off x="5236920" y="1979280"/>
            <a:ext cx="12600" cy="6094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406680" y="5910120"/>
            <a:ext cx="4106880" cy="11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SOCLE DE PROTECTION SOCIA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Définition (2)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78000" y="1477800"/>
            <a:ext cx="993744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uverture Sanitaire Universell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Objectif à atteindre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Veiller à ce que l’ensemble de la population ait accès aux servic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préventifs, curatifs, palliatifs, de réadaptation et de promotion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de la santé dont elle a besoin et à ce que ces services soient de qualité suffisante pour être efficaces, sans que leurs coûts n’entraînant des difficultés financièr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(dépenses catastrophiques de santé)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pour les usager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» (</a:t>
            </a:r>
            <a:r>
              <a:rPr b="0" lang="fr-FR" sz="2800" spc="-1" strike="noStrike">
                <a:solidFill>
                  <a:srgbClr val="0070c0"/>
                </a:solidFill>
                <a:latin typeface="Arial Narrow"/>
              </a:rPr>
              <a:t>Rapport sur la santé dans le monde, 2010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IV.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Dimensions de la CSU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463680" y="1558800"/>
            <a:ext cx="8245440" cy="497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6" name="Rectangle 7"/>
          <p:cNvSpPr/>
          <p:nvPr/>
        </p:nvSpPr>
        <p:spPr>
          <a:xfrm>
            <a:off x="8709120" y="6099120"/>
            <a:ext cx="1984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Arial"/>
              </a:rPr>
              <a:t>Source : RSM 2010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IV.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Situation </a:t>
            </a: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de la mise en œuvre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360" y="1884240"/>
            <a:ext cx="991872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relativement avancés dans la voie vers la CSU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  </a:t>
            </a:r>
            <a:r>
              <a:rPr b="0" lang="fr-FR" sz="2800" spc="-1" strike="noStrike">
                <a:solidFill>
                  <a:srgbClr val="96ccee"/>
                </a:solidFill>
                <a:latin typeface="Arial Narrow"/>
              </a:rPr>
              <a:t>Botswana, Gabon. Ghana, Rwanda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ayant pris des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engagements politiques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de haut niveau en faveur de la CSU: 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Afrique du Sud, Benin, Burundi, Congo, Côte d’Ivoire, Kenya, Malawi, Mali, Maurice, Namibie, Nigeria, RDC, Sénégal, Seychelles, Sierra Leone, Tanzanie, </a:t>
            </a:r>
            <a:r>
              <a:rPr b="1" lang="fr-FR" sz="2400" spc="-1" strike="noStrike">
                <a:solidFill>
                  <a:srgbClr val="96ccee"/>
                </a:solidFill>
                <a:latin typeface="Arial Narrow"/>
              </a:rPr>
              <a:t>Togo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 et Uganda, etc.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99520" y="1358640"/>
            <a:ext cx="981252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Volonté politique  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Multisectorialité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ncrage institutionnel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Renforcement de l’offre de soin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doption préférentielle d’un modèle de financemen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Gestion efficient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6816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. Facteurs de succès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. Défis et opportunités (1/2)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7680" y="143352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1375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3000" spc="-1" strike="noStrike">
                <a:solidFill>
                  <a:srgbClr val="0000cc"/>
                </a:solidFill>
                <a:latin typeface="Arial Narrow"/>
              </a:rPr>
              <a:t>Défis</a:t>
            </a:r>
            <a:r>
              <a:rPr b="1" lang="fr-FR" sz="30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éfinition d’un cheminement au niveau national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inégalités existantes : Mécanisme de protection sociale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barrières financières : paiements directs de santé par les ménag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Disponibilité effective des services de santé essentiels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Gestion rationnelle des ressources disponibl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5:33:18Z</dcterms:created>
  <dc:creator>Karamma</dc:creator>
  <dc:description/>
  <cp:keywords>communication photos text</cp:keywords>
  <dc:language>en-US</dc:language>
  <cp:lastModifiedBy>Pekele, Dr. Minzah - tg</cp:lastModifiedBy>
  <dcterms:modified xsi:type="dcterms:W3CDTF">2017-02-08T20:06:11Z</dcterms:modified>
  <cp:revision>425</cp:revision>
  <dc:subject>WHO template and recommendations</dc:subject>
  <dc:title>Slide 1</dc:title>
</cp:coreProperties>
</file>